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49280" y="964800"/>
            <a:ext cx="5067360" cy="34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-3556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904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349280" y="965160"/>
            <a:ext cx="5070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732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64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368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2760" indent="-4305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2760" indent="-43056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2760" indent="-43056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3556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pplications of New Technologies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IT 7240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wer Point Present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dmod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cial networ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8280"/>
                <a:tab algn="l" pos="555480"/>
                <a:tab algn="l" pos="1012680"/>
                <a:tab algn="l" pos="1469880"/>
                <a:tab algn="l" pos="1927080"/>
                <a:tab algn="l" pos="2384280"/>
                <a:tab algn="l" pos="2841480"/>
                <a:tab algn="l" pos="3298680"/>
                <a:tab algn="l" pos="3755880"/>
                <a:tab algn="l" pos="4213080"/>
                <a:tab algn="l" pos="4670280"/>
                <a:tab algn="l" pos="5127480"/>
                <a:tab algn="l" pos="5584680"/>
                <a:tab algn="l" pos="6041880"/>
                <a:tab algn="l" pos="6499080"/>
                <a:tab algn="l" pos="6956280"/>
                <a:tab algn="l" pos="7413480"/>
                <a:tab algn="l" pos="7870680"/>
                <a:tab algn="l" pos="8327880"/>
                <a:tab algn="l" pos="8785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Power Point (ppt)</a:t>
            </a: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wer point presentations @ beginning of each 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wer point presentations for review of each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s required to do power point presentations for group repor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dmodo.com</a:t>
            </a: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l Homework assignments and test alerts will be accessible to students through www.edmodo.c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93000"/>
              </a:lnSpc>
              <a:buNone/>
              <a:tabLst>
                <a:tab algn="l" pos="0"/>
                <a:tab algn="l" pos="3556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ocial Networks</a:t>
            </a: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	</a:t>
            </a:r>
            <a:br>
              <a:rPr sz="4000"/>
            </a:b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71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psscienceteachers.ning.c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cebook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na Cook</dc:creator>
  <dc:description/>
  <dc:language>en-US</dc:language>
  <cp:lastModifiedBy>College of Education</cp:lastModifiedBy>
  <dcterms:modified xsi:type="dcterms:W3CDTF">2009-08-08T16:21:54Z</dcterms:modified>
  <cp:revision>1</cp:revision>
  <dc:subject/>
  <dc:title>Applications of New Technologies IT 7240</dc:title>
</cp:coreProperties>
</file>